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EB770C-5E8C-4E97-976D-B1160749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695985-451B-4446-8BC3-B3BFEBF3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1E9C-AC09-4BAB-B420-CEFD121E3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EEC1-DE85-4079-A330-B1F571389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AEA1-9CE6-4DAC-9D82-BD350A891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1E2B-24CA-4949-ACD1-212210977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854E-85BA-40DD-9641-96712C650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1098-7C33-4965-8C49-B31FB968B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0861-098B-41BC-B54D-19DCD4534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AEA3-BEC8-4EB6-9215-BF18DF8FC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C09C-623C-4343-AF3C-94E0569BE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EE53-503C-4ABF-BE35-F013F41B0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36D4-F115-4027-B07D-1A617875B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AC99-847B-4172-A7BD-129111062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ACF7-5E08-4505-969A-17EE1FCD1D7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b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FE3-AB34-4D6A-BFEC-1ECC837078F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23880" y="1300320"/>
            <a:ext cx="8234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95"/>
                </a:solidFill>
                <a:latin typeface="Comic Sans MS"/>
              </a:rPr>
              <a:t>Comparing Forms of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63400" y="3224160"/>
            <a:ext cx="7350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How should political and economic power be distributed in a soci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248640" y="49975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VICS – 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ules of R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74560" y="1947960"/>
            <a:ext cx="7894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e &amp;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1890720"/>
            <a:ext cx="82296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9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ing Governments and Econo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3040" y="207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pages 20-35 and complete the ch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the type of government or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some positives (p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some negatives (c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-party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stem in which only one political party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 = easier to pass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 = opposition is left out of the polit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ary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voters elect lawmakers (who select a le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easier to get legislation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no clear separation of power, frequent change of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idential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voters elect lawmakers and a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separation of powers, fixed terms of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no way to remove President, gridlock if lawmakers and President are from opposing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power is centralized in nation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promotes national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public policies may not fit the needs of the entire country or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der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in which power is divided between national and region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good for large, divers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conflict between national and regional governments, conflicting or competing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der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power resides in the regions, the central government gets power from region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der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prevents rise of authoritarian central government, flexible to meet lo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central government too weak to meet the nations needs, conflict betwee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conomic system in which decisions about what goods and services to produce are made on the basis of tra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 = people can provide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 = low standard of living, limited access to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conomic system that relies mainly on markets to determine what goods and service to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econ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competition keeps prices from rising, meets needs based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instability, periods of growth alternate with recession, unequal distribution of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conomic system in which decisions about what goods and services are made by the cent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 = can ensure full employment, price controls, and inco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 = low worker incentive, planners less efficient tha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5:36:23Z</dcterms:created>
  <dc:creator>TCI  </dc:creator>
  <dc:description/>
  <dc:language>en-US</dc:language>
  <cp:lastModifiedBy>Illinois School District U-46</cp:lastModifiedBy>
  <cp:lastPrinted>2007-08-24T20:48:01Z</cp:lastPrinted>
  <dcterms:modified xsi:type="dcterms:W3CDTF">2013-08-21T12:08:10Z</dcterms:modified>
  <cp:revision>534</cp:revision>
  <dc:subject/>
  <dc:title>PowerPoint Presentation</dc:title>
</cp:coreProperties>
</file>